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6B32-5661-412B-ADDC-202A3D53AD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8E61-D794-4C3F-9130-17EA62D7EF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2666-3F04-4CB6-973E-D56E1C7337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89DE-0813-47F6-AD90-DDEE9CCE67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C8C-D317-4709-A7BA-BCE41669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908-3E21-4656-B346-CFD3F5A6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6C9-9F71-4D31-B44E-6FC3E950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077-D157-4494-B01C-8138B937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F78-D011-4C1B-97F9-2BFC8BE1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767-E7A1-4C67-881A-EB966F09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DB2-1CFB-476E-954E-331248BB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134-5E0B-478C-BBC4-DBCC2D04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83D-C2C5-4AF0-AE30-0E03873E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C99-C9F6-41DF-9258-AF14A444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267-CAE7-4213-B3EA-3215D326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D82-C0C1-46F9-A8D2-B496C7F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2F97-9864-4E5C-A0DD-F867F5320E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Podstawowe wartości ekonomicz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rzychody; koszty (stałe, zmienne); planowanie; budż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rzychó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73000"/>
            <a:ext cx="871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chód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(utarg) przedsiębiorstwa jest to ilość pieniędzy uzyskana ze sprzedaży dóbr i usług w jakimś okresie, na ogół jednego rok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Waszym przypadku będzie to ilość pieniędzy uzyskana z wynajmowania pokoi w ciągu jednego kwartał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79280" y="1805040"/>
            <a:ext cx="8785440" cy="1552680"/>
          </a:xfrm>
          <a:prstGeom prst="rect">
            <a:avLst/>
          </a:prstGeom>
          <a:solidFill>
            <a:srgbClr val="4f81bd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rostokąt 3"/>
          <p:cNvSpPr/>
          <p:nvPr/>
        </p:nvSpPr>
        <p:spPr>
          <a:xfrm>
            <a:off x="611280" y="6032520"/>
            <a:ext cx="79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Źródło: Begg, D., Fischer, S., Dornbusch, R. "Ekonomia", PWE Warszawa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oszt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62828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oszty firmy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wydatki poniesione na wytworzenie dóbr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usług w danym okre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pixabay.com/static/uploads/photo/2012/12/19/03/15/money-70830_640.jpg?i"/>
          <p:cNvPicPr/>
          <p:nvPr/>
        </p:nvPicPr>
        <p:blipFill>
          <a:blip r:embed="rId1"/>
          <a:stretch/>
        </p:blipFill>
        <p:spPr>
          <a:xfrm>
            <a:off x="5510160" y="3517920"/>
            <a:ext cx="3036960" cy="4297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682560" y="3489480"/>
            <a:ext cx="39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W przypadku hotelu w skład kosztów b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dzie wchodzi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ć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m.in.: wybudowanie pomieszcze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ń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, zapewnienie wyposa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ż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enia, opłacenie obsłu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50920" y="1628640"/>
            <a:ext cx="8713800" cy="1008360"/>
          </a:xfrm>
          <a:prstGeom prst="rect">
            <a:avLst/>
          </a:prstGeom>
          <a:solidFill>
            <a:srgbClr val="4f81bd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Zysk</a:t>
            </a:r>
            <a:r>
              <a:rPr b="0" lang="pl-PL" sz="6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yski firm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 nadwyżki przychodów nad koszt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Diagram 3" descr=""/>
          <p:cNvPicPr/>
          <p:nvPr/>
        </p:nvPicPr>
        <p:blipFill>
          <a:blip r:embed="rId1"/>
          <a:stretch/>
        </p:blipFill>
        <p:spPr>
          <a:xfrm>
            <a:off x="652320" y="2279520"/>
            <a:ext cx="7589880" cy="3554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50920" y="1628640"/>
            <a:ext cx="8785080" cy="615960"/>
          </a:xfrm>
          <a:prstGeom prst="rect">
            <a:avLst/>
          </a:prstGeom>
          <a:solidFill>
            <a:srgbClr val="4f81bd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oszty stałe i zmien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4020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000000"/>
                </a:solidFill>
                <a:latin typeface="Calibri"/>
              </a:rPr>
              <a:t>Koszty stałe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to koszty, które nie zmieniają się wraz ze wzrostem liczby świadczonych usług np. koszty zarządu i administracj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ww.sga.waw.pl/web/images/stories/KALKULATORY/bep3_3.jpg"/>
          <p:cNvPicPr/>
          <p:nvPr/>
        </p:nvPicPr>
        <p:blipFill>
          <a:blip r:embed="rId1"/>
          <a:srcRect l="8713" t="1350" r="2702" b="14997"/>
          <a:stretch/>
        </p:blipFill>
        <p:spPr>
          <a:xfrm>
            <a:off x="662040" y="3701880"/>
            <a:ext cx="4054320" cy="2392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932360" y="1557360"/>
            <a:ext cx="41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Koszty zmienne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to koszty, które zmieniają się wraz ze zmianami liczby świadczonych usług. Rozwijając hotel będziecie mieli do czynienia ze wzrostem tego typu kosztów (np. kosztów prania i sprzątani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Budż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udżet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jest to plan wydatków i przychodów. Skonstruowanie poprawnego planu pomoże Wam zbudować silny bizn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Diagram 3" descr=""/>
          <p:cNvPicPr/>
          <p:nvPr/>
        </p:nvPicPr>
        <p:blipFill>
          <a:blip r:embed="rId1"/>
          <a:stretch/>
        </p:blipFill>
        <p:spPr>
          <a:xfrm>
            <a:off x="55440" y="3322800"/>
            <a:ext cx="9033120" cy="2444760"/>
          </a:xfrm>
          <a:prstGeom prst="rect">
            <a:avLst/>
          </a:prstGeom>
          <a:ln w="0">
            <a:noFill/>
          </a:ln>
        </p:spPr>
      </p:pic>
      <p:sp>
        <p:nvSpPr>
          <p:cNvPr id="71" name="Prostokąt 3"/>
          <p:cNvSpPr/>
          <p:nvPr/>
        </p:nvSpPr>
        <p:spPr>
          <a:xfrm>
            <a:off x="611280" y="6080040"/>
            <a:ext cx="79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Źródło: Begg, D., Fischer, S., Dornbusch, R. "Ekonomia", PWE Warszawa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08000" y="1886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76092"/>
                </a:solidFill>
                <a:latin typeface="Calibri"/>
              </a:rPr>
              <a:t>Planowanie rozwoju przedsiębiorst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jęcie odpowiedniej strategii przy prowadzeniu działalności pomoże Wam szybciej podejmować trafne decyzje oraz reagować na zmiany zachodzące w otoczeniu firm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obry plan rozwoju uwzględnia takie czynniki j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Diagram 17" descr=""/>
          <p:cNvPicPr/>
          <p:nvPr/>
        </p:nvPicPr>
        <p:blipFill>
          <a:blip r:embed="rId1"/>
          <a:stretch/>
        </p:blipFill>
        <p:spPr>
          <a:xfrm>
            <a:off x="66600" y="2706840"/>
            <a:ext cx="9010800" cy="1152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9"/>
          <p:cNvSpPr/>
          <p:nvPr/>
        </p:nvSpPr>
        <p:spPr>
          <a:xfrm>
            <a:off x="684360" y="4051440"/>
            <a:ext cx="79358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Kim ma być wasz kluczowy klient? Czy Waszymi klientami będą ludzie bogaci, oczekujący luksusów, czy może rodziny z dziećmi masowo odwiedzające Pekunię lat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Jeżeli okaże się, że nie osiągasz oczekiwanych wyników w dłuższym okresie, w ramach założonej strategii, pamiętaj, że zawsze możesz ją zmieni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lan rozwoju jest ściśle związany z planowaniem wydatków i przychod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ytuł 1"/>
          <p:cNvSpPr/>
          <p:nvPr/>
        </p:nvSpPr>
        <p:spPr>
          <a:xfrm>
            <a:off x="-108000" y="189000"/>
            <a:ext cx="925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76092"/>
                </a:solidFill>
                <a:latin typeface="Calibri"/>
              </a:rPr>
              <a:t>Planowanie rozwoju przedsiębiorst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D:\Data\awinniczuk\AppData\Local\Microsoft\Windows\Temporary Internet Files\Content.IE5\MF5X68BG\MC900439824[1].png"/>
          <p:cNvPicPr/>
          <p:nvPr/>
        </p:nvPicPr>
        <p:blipFill>
          <a:blip r:embed="rId1"/>
          <a:stretch/>
        </p:blipFill>
        <p:spPr>
          <a:xfrm>
            <a:off x="6899400" y="4363920"/>
            <a:ext cx="2114280" cy="2114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468360" y="2852640"/>
            <a:ext cx="727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leży pamiętać o wyznaczeniu realnych celów do osiągnięcia. Zadania i cele do realizacji warto podzielić na elementy składowe i przypisać im odpowiednią kolejnoś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00:11Z</dcterms:modified>
  <cp:revision>35</cp:revision>
  <dc:subject/>
  <dc:title>Slajd 1</dc:title>
</cp:coreProperties>
</file>